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026-6199-40C9-8E9C-FEBEEB1A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275-8454-44B7-A15E-DA3EAAAD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490-339F-4321-9831-4FEF5E39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9A63-4385-4DA6-85E4-E3E96CE7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52F4-80D2-4A2D-AAB6-4C21CD59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EDFB-D13E-4DB5-AAFA-CC8A09D6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8AF4-82CF-4F82-9298-2A9272DA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E97E-17D9-4B04-87D9-6B164ECD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B659-80E2-481B-9F5C-2D32EC21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9481-D1D0-4F5B-8AE5-7C470B26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5CF3-8321-4078-AAB4-E13FD208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781-2608-4EDA-BD83-5BD515F8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8918-6A43-4F3B-938C-53145F37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B855-7E35-4CA0-927D-8CDD7661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E035-9565-4146-BA91-6B579D61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EF27-A183-4B63-9FE8-AF31F1E9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A2B9-CDEF-467E-822B-F6568298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E29-4A9A-4165-A8C4-3C13A864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F27-A8B3-44D5-BEA1-3C6A8236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BAA-1947-4E8E-A06F-46583AD4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26D-908A-4602-9B43-D466C2C9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FD8-947E-417A-BB87-D5C7DD1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56A-CD96-4B3A-B121-BCBC7EF7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A85-7BA9-4DFB-B5DE-B0BAD324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B1F5-EE90-4789-ABBA-506FE81E35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19EE-4FC0-485D-BCEC-4DC9DA45AB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herited Disea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utosomal Recessive and Autosomal Dominant Patterns of Inheritan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tosomal Recessi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caused by a recessive allele b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ly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in ethnic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ystic Fibro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among white Americ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ximately 1 and 20 white Americans are carri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in 2000 babies are born with C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due to a defective protein in the plasma membrane, it results in the formation &amp; accumulation of thick mucus in the lungs and digestive tract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y-Sach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s the Central Nervous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 in the absence of an enzyme that breaks down lipids in the C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in Amish, and Ashkenzic Je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bies only live to around the age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in 27 babies are born with the dise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KU- Phenylketonur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 in the absence of enzyme that converts phenylalanine into tryosine. Therefore it accumulates in the body  and results in damage to the C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in Sweden and Norw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s mental retard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controlled by removing foods that contain phenylalanine in their di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tosomal Domin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 from a dominant allele. Therefore, if the individual has at least 1 allele, the trait will be pres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dominant diseases are r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untington’s Disea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 in the breakdown of certain areas of the br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h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set is around age 30-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ly pass down allele before they realize they have the tra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ple Dominant Tra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ngue Rol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psburg lip (large lower l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ging earlo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tchhiker’s thum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nd shaped ey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ck l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eye lash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ce of hair in middle section of the fin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set eyes (distance between the ey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ir texture (curly is domina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ydactyl- 6 fingers. Rare but domin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4:47:27Z</dcterms:created>
  <dc:creator>pchs</dc:creator>
  <dc:description/>
  <dc:language>en-US</dc:language>
  <cp:lastModifiedBy>Perquimans County Schools</cp:lastModifiedBy>
  <dcterms:modified xsi:type="dcterms:W3CDTF">2005-12-08T16:59:14Z</dcterms:modified>
  <cp:revision>2</cp:revision>
  <dc:subject/>
  <dc:title>Inherited Diseases</dc:title>
</cp:coreProperties>
</file>